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.xml/" TargetMode="External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jsecurity.org/tags" TargetMode="External"/><Relationship Id="rId3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.DefaultWebSecurityManager/" TargetMode="External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jsecurity.org/" TargetMode="External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pache Ki</a:t>
            </a:r>
            <a:br>
              <a:rPr sz="8400"/>
            </a:b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(formerly JSecurity)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DevNexus - 2009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5867280" y="5943600"/>
            <a:ext cx="1270080" cy="127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Ki Architecture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2146320" y="3035160"/>
            <a:ext cx="871236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uthentication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process of verifying someone is who they claim to b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ost commonly involves a username and passwor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uthentication in Ki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853200" indent="-5482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ost access to Ki is via Subject interfac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53200" indent="-5482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eb environments get by calling SecurityUtils.getSubject(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53200" indent="-5482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uthenticate by calling Subject.login(...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53200" indent="-5482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rows exception if authentication fail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965160" y="2565360"/>
            <a:ext cx="11061720" cy="6121440"/>
          </a:xfrm>
          <a:prstGeom prst="roundRect">
            <a:avLst>
              <a:gd name="adj" fmla="val 311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uthentication Example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3" name=""/>
          <p:cNvSpPr/>
          <p:nvPr/>
        </p:nvSpPr>
        <p:spPr>
          <a:xfrm>
            <a:off x="1359000" y="2521080"/>
            <a:ext cx="10287000" cy="61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UsernamePasswordToken token =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new UsernamePasswordToken(username, password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// Remember me is built in - just set to true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token.setRememberMe( true 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try {Subject subject = SecurityUtils.getSubject(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subject.login(token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// Variety of AuthenticationException subclasses can be caught} catch (UnknownAccountException uae) { // User account not found} catch (IncorrectCredentialsException ice) { // Password wrong} catch (AuthenticationException e) { // Other auth error}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uthorization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1046484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870840" indent="-5598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process of determining if someone can perform a specific ac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70840" indent="-5598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Ki supports using roles and/or permissions for authoriza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70840" indent="-5598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Ki doesn’t limit your data mod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70840" indent="-5598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bject or string based permissio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70840" indent="-5598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upports instance-level permissions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Permission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10464840" cy="646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ost atomic element of authoriza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Not related to a use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Ki supports two forms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778040" indent="-5716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bject-based - extend Ki’s Permission interfac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778040" indent="-5716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tring-based - converted to object by PermissionResolver (default creates WildcardPermissions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WildcardPermission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owerful string representation of permissio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mple - “clearCache” “generateReports”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ulti-level - “users:edit” “users:delete”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nstance level - “newsletter:send:13”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WildcardPermission (cont.)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6769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844200" indent="-5425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ildcard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89120" indent="-5428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newsletter:*:13” (e.g. user allowed to perform any action for ID 13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44200" indent="-5425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omma-lis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89120" indent="-5428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newsletter:send:13,14,15” (e.g. user allowed to send for ID13, 14, and 15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44200" indent="-5425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an grant wildcards, but always check specific instance “newsletter:delete:13”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Role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826560" indent="-5310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Named collection of permissio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26560" indent="-5310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Users associated with a role typically inherit the permissions associated with i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26560" indent="-5310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llows granting sets of permissions to user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26560" indent="-5310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Ki doesn’t have a Role class - up to the Real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uthorization in Ki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826560" indent="-5310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uthorization mechanisms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53480" indent="-5313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rogrammatic (via Subject interface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53480" indent="-5313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eclarative URL security (</a:t>
            </a: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web.xml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or jsecurity.ini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53480" indent="-5313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nnotation-based method securit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53480" indent="-5313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JSP tag-bas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Introduction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Jeremy Hail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778040" indent="-5716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roject Co-Founde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778040" indent="-5716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VP Product Development, WeTheCitize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965160" y="2705040"/>
            <a:ext cx="11061720" cy="6743880"/>
          </a:xfrm>
          <a:prstGeom prst="roundRect">
            <a:avLst>
              <a:gd name="adj" fmla="val 282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Programmatic Authorization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8" name=""/>
          <p:cNvSpPr/>
          <p:nvPr/>
        </p:nvSpPr>
        <p:spPr>
          <a:xfrm>
            <a:off x="1359000" y="2774880"/>
            <a:ext cx="10287000" cy="66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// Most common usage - obtain Subject from Thread Local       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Subject subject = SecurityUtils.getSubject();       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// Can programmatically check roleif( subject.hasRole( "manager" ) ) {    // Logic for managers}       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// Or programmatically check permissionsif( subject.isPermitted( "message:delete" ) ) {    // Allow user to delete a message}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// Many other authorization methods on Subjec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subject.checkPermission(...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subject.hasAllRoles(...); etc.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965160" y="3670200"/>
            <a:ext cx="11061720" cy="4813560"/>
          </a:xfrm>
          <a:prstGeom prst="roundRect">
            <a:avLst>
              <a:gd name="adj" fmla="val 395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Object and String Permission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1" name=""/>
          <p:cNvSpPr/>
          <p:nvPr/>
        </p:nvSpPr>
        <p:spPr>
          <a:xfrm>
            <a:off x="1359000" y="3994200"/>
            <a:ext cx="1028700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// Permissions can be checked using object-based permiss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PrinterPermission perm = new PrinterPermission( “hplaserjet” 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if( subject.isPermitted( perm ) {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// or string-based permiss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if( subject.isPermitted( “printer:hplaserjet” ) {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965160" y="3022560"/>
            <a:ext cx="11061720" cy="6121440"/>
          </a:xfrm>
          <a:prstGeom prst="roundRect">
            <a:avLst>
              <a:gd name="adj" fmla="val 311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URL Authorization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4" name=""/>
          <p:cNvSpPr/>
          <p:nvPr/>
        </p:nvSpPr>
        <p:spPr>
          <a:xfrm>
            <a:off x="1359000" y="3181320"/>
            <a:ext cx="102870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INI web configuration (more on this later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[urls]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# Allow anonymous access/s/signup=an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# Require roles for access/s/manageUsers=roles[admin]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# Require permissions for access/s/manageUsers=perms[user:manage]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# Require user to be authenticate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/s/**=authc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965160" y="3594240"/>
            <a:ext cx="11061720" cy="4965480"/>
          </a:xfrm>
          <a:prstGeom prst="roundRect">
            <a:avLst>
              <a:gd name="adj" fmla="val 383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nnotation Authorization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7" name=""/>
          <p:cNvSpPr/>
          <p:nvPr/>
        </p:nvSpPr>
        <p:spPr>
          <a:xfrm>
            <a:off x="1359000" y="3790800"/>
            <a:ext cx="10287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// Will automatically throw an AuthorizationException if caller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// doesn’t have required rol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@RequiresRoles(“manager”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public String editUser(...) {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// Will automatically throw an AuthorizationException if call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// doesn’t have required permiss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@RequiresPermissions(“user:edit”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public String editUser(...) {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965160" y="2908440"/>
            <a:ext cx="11061720" cy="6350040"/>
          </a:xfrm>
          <a:prstGeom prst="roundRect">
            <a:avLst>
              <a:gd name="adj" fmla="val 3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JSP Tag Authorization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0" name=""/>
          <p:cNvSpPr/>
          <p:nvPr/>
        </p:nvSpPr>
        <p:spPr>
          <a:xfrm>
            <a:off x="1359000" y="2978280"/>
            <a:ext cx="10287000" cy="61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&lt;%-- Import JSecurity permissions --%&gt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&lt;%@ taglib prefix="jsec" uri="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2"/>
              </a:rPr>
              <a:t>http://www.jsecurity.org/tag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" %&gt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&lt;%-- Check permissions --%&gt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&lt;jsec:hasPermission name="user:manage"&gt;....&lt;/jsec:hasPermission&gt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&lt;jsec:lacksPermission name="user:manage"&gt;....&lt;/jsec:lacksPermission&gt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&lt;%-- Check roles --%&gt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&lt;jsec:hasRole name="admin"&gt;....&lt;/jsec:hasRole&gt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&lt;jsec:lacksRole name="admin"&gt;....&lt;/jsec:lacksRole&gt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&lt;%-- Some other tags... --%&gt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&lt;jsec:authenticated&gt;...&lt;/jsec:authenticated&gt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&lt;jsec:user&gt;...&lt;/jsec:user&gt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&lt;jsec:guest&gt;...&lt;/jsec:guest&gt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Realm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6311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ncapsulates both authentication and authoriza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Built in realms for JDBC, LDAP, property files, etc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r create custom Realm for your data mod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Usually custom Realms will extend AuthorizingReal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343080" y="2755800"/>
            <a:ext cx="12306240" cy="6654960"/>
          </a:xfrm>
          <a:prstGeom prst="roundRect">
            <a:avLst>
              <a:gd name="adj" fmla="val 286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ustom Realm Example (authentication)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5" name=""/>
          <p:cNvSpPr/>
          <p:nvPr/>
        </p:nvSpPr>
        <p:spPr>
          <a:xfrm>
            <a:off x="596880" y="2825640"/>
            <a:ext cx="11721960" cy="65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// From Spring-Hibernate sample app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ublic class SampleRealm extends AuthorizingRealm 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ublic SampleRealm() {    setCredentialsMatcher(new Sha256CredentialsMatcher());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// Superclass will compare credentials using an Sha256 hash as specified abov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rotected AuthenticationInfo doGetAuthenticationInfo(AuthenticationToken authcToken) ... {    UsernamePasswordToken token = (UsernamePasswordToken) authcToken;  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User user = userDAO.findUser(token.getUsername());    if( user != null ) {        return new SimpleAuthenticationInfo(user.getId(), user.getPassword(), getName());    } else {        return null;    }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343080" y="2755800"/>
            <a:ext cx="12306240" cy="6654960"/>
          </a:xfrm>
          <a:prstGeom prst="roundRect">
            <a:avLst>
              <a:gd name="adj" fmla="val 286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ustom Realm Example (authorization)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8" name=""/>
          <p:cNvSpPr/>
          <p:nvPr/>
        </p:nvSpPr>
        <p:spPr>
          <a:xfrm>
            <a:off x="596880" y="3003480"/>
            <a:ext cx="11721960" cy="61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// From Spring-Hibernate sample app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// Retrieve user info from DAO and return AuthorizationInfo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rotected AuthorizationInfo doGetAuthorizationInfo(PrincipalCollection principals) {    Long userId = (Long) principals.fromRealm(getName()).iterator().next();    User user = userDAO.getUser(userId);    if( user != null ) {        SimpleAuthorizationInfo info = new SimpleAuthorizationInfo();        for( Role role : user.getRoles() ) {            info.addRole(role.getName());            info.addStringPermissions( role.getPermissions() );        }        return info;    } else {        return null;    }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Session Managemen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upports heterogeneous clien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oes not require HTTP environment (works with server-side service, Swing client, applets, etc.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OJO-based (IoC friendly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an be used for Single-Sign 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Session Management (cont.)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10464840" cy="6387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879840" indent="-5655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emporal-based record (start, stop, last access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79840" indent="-5655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an transparently be used to back HttpSess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79840" indent="-5655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ssion event listener suppor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79840" indent="-5655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upports inactivity/expira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79840" indent="-5655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llows setting attributes (similar to HttpSession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genda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69720" y="2196720"/>
            <a:ext cx="10464840" cy="7149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hat is Apache Ki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erminolog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uthentication,  Authorization, Session Management, Cryptograph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odules/Suppor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Getting Started/Demo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Questio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1092240" y="3772080"/>
            <a:ext cx="11061720" cy="4647960"/>
          </a:xfrm>
          <a:prstGeom prst="roundRect">
            <a:avLst>
              <a:gd name="adj" fmla="val 409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Ki Session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5" name=""/>
          <p:cNvSpPr/>
          <p:nvPr/>
        </p:nvSpPr>
        <p:spPr>
          <a:xfrm>
            <a:off x="1359000" y="3994200"/>
            <a:ext cx="1028700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// Access sessions via the subject - session created automaticall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Session session = subject.getSession(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// Session only returned if it already exist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Session session = subject.getSession(false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// Can perform a variety of session operationssession.setAttribute( "userId", user.getId() 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session.getAttribute( “userId” 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session.getLastAccessTime(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Session Data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an configure to use any storage mechanism (file system, memory, distributed cache, JDBC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llows easy ability to cluster (Terracotta, GigaSpaces, etc.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ryptography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nterface driven, POJO-bas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mplified wrapper of complicated JCE infrastructur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asy to understand API (ciphers, hashes, etc.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ipher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cipher is a cryptographic algorithm that encrypts and decrypts data using public and/or private key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778040" indent="-5716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ymmetric cipher - uses the same key to encrypt and decryp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778040" indent="-5716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symmetric cipher - uses one key to encrypt and another to decryp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965160" y="2286000"/>
            <a:ext cx="11061720" cy="2133720"/>
          </a:xfrm>
          <a:prstGeom prst="roundRect">
            <a:avLst>
              <a:gd name="adj" fmla="val 89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Ki Cipher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>
            <a:off x="1359000" y="2470320"/>
            <a:ext cx="1028700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public interface Cipher {    byte[] encrypt(byte[] raw, byte[] encryptionKey);    byte[] decrypt(byte[] encrypted, byte[] decryptionKey);}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269720" y="4470480"/>
            <a:ext cx="10464840" cy="401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efault implementations exist (BlowfishCipher, etc.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ncrypt user identities, such as remember me, cookies, etc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Hashe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cryptographic hash is a one-way, irreversible conversion of an input sourc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ommonly used for password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an be used on anything (files, streams, etc.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965160" y="2006640"/>
            <a:ext cx="11061720" cy="3530520"/>
          </a:xfrm>
          <a:prstGeom prst="roundRect">
            <a:avLst>
              <a:gd name="adj" fmla="val 539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Ki Hashe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1359000" y="2013120"/>
            <a:ext cx="10287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//some examples: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new Md5Hash(“blah”).toHex();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//File MD5 Hash value for checksum: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new MD5Hash( aFile ).toHex();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//store a password, but not in raw form: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new Sha256(aPassword).toBase64(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269720" y="5295960"/>
            <a:ext cx="10464840" cy="401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eaner OO-API compared to JDK MessageDigest and Commons Diges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Built-in hex/base64 convers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Built-in support for salts/repeated hashing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Modules/Suppor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1046484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844200" indent="-5425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ackaged as modules (jsecurity-core, jsecurity-spring, jsecurity-ehcache, ...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44200" indent="-5425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eb module for integration with web applicatio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44200" indent="-5425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pring Framework integra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44200" indent="-5425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Grails plugi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44200" indent="-5425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Guice, JBoss support on the way (usable now, but not officially supported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965160" y="2120760"/>
            <a:ext cx="11061720" cy="7658280"/>
          </a:xfrm>
          <a:prstGeom prst="roundRect">
            <a:avLst>
              <a:gd name="adj" fmla="val 248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Web Integration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1359000" y="2082960"/>
            <a:ext cx="10287000" cy="79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&lt;!-- Excerpt from the Spring-Hibernate sample app --!&gt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&lt;filter&gt;        &lt;filter-name&gt;JSecurityFilter&lt;/filter-name&gt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&lt;!-- The below class is for Spring/web - for non-Spring change to just JSecurityFilter --&gt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&lt;filter-class&gt;org.jsecurity.spring.SpringJSecurityFilter&lt;/filter-class&gt;        &lt;init-param&gt;            &lt;param-name&gt;config&lt;/param-name&gt;            &lt;param-value&gt;                [filters]                jsecurity.loginUrl = /s/login                jsecurity.unauthorizedUrl = /unauthorized.jsp                authc.successUrl = /s/home                [urls]                /s/signup=anon                /s/manageUsers=perms[user:manage]                /s/**=authc            &lt;/param-value&gt;        &lt;/init-param&gt;    &lt;/filter&gt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&lt;filter-mapping&gt;        &lt;filter-name&gt;JSecurityFilter&lt;/filter-name&gt;        &lt;url-pattern&gt;/s/*&lt;/url-pattern&gt;    &lt;/filter-mapping&gt;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266760" y="3263760"/>
            <a:ext cx="12471480" cy="5575320"/>
          </a:xfrm>
          <a:prstGeom prst="roundRect">
            <a:avLst>
              <a:gd name="adj" fmla="val 34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Spring Integration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>
            <a:off x="355680" y="3587760"/>
            <a:ext cx="12204720" cy="49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&lt;bean id="securityManager" class="org.jsecurity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2"/>
              </a:rPr>
              <a:t>web.DefaultWebSecurityManager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"&gt;   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&lt;!-- If you have multiple realms, use the 'realms'  property instead. --&gt;    &lt;property name="realm" ref="sampleRealm"/&gt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&lt;!-- To use JSecurity sessions, set the session mode --&gt;    &lt;property name="sessionMode" value="jsecurity"/&gt;&lt;/bean&gt;&lt;!-- Post processor that automatically invokes init() and destroy() methods --&gt;&lt;bean id="lifecycleBeanPostProcessor"        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class="org.jsecurity.spring.LifecycleBeanPostProcessor"/&gt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What is Ki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mple, security API for Jav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pache Incubator projec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Not tied to any framework or container - can run standalon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uthentication, authorization, session management, cryptograph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Samples/Demo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655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835200" indent="-5367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pring-Hibernate Sample App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71120" indent="-5371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ypical three-tier web app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71120" indent="-5371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Uses Spring 2.5 and JPA annotatio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71120" indent="-5371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emonstrates authentication, authorization, logout, annotations, JSP tags, etc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35200" indent="-5367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ther samples include standalone and web site/WebStart shared sessio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Statu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269720" y="2145960"/>
            <a:ext cx="10464840" cy="6946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853200" indent="-5482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Latest release: JSecurity 0.9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53200" indent="-5482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1.0 release in the work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79800" indent="-5482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ackages/docs/code renamed to Ki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79800" indent="-5482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ssumed Identity (run-as) suppor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79800" indent="-5482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uthentication caching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79800" indent="-5482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ore built-in Realms (OpenID, Atlassian Crowd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79800" indent="-5482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ther enhancements (tracked in JIRA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Question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5702400" y="2675880"/>
            <a:ext cx="158868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8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?</a:t>
            </a:r>
            <a:endParaRPr b="0" lang="en-US" sz="28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990720" y="6883560"/>
            <a:ext cx="110109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2"/>
              </a:rPr>
              <a:t>Website:       http://www.jsecurity.org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Mailing Lists:  jsecurity-user@incubator.apache.org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                   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jsecurity-dev@incubator.apache.org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Why the new name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808560" indent="-5198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rademark concerns over JSecurit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08560" indent="-5198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Ki = Fortress (surrounded by moat) in Japanes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08560" indent="-5198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Ki (pronounced key) works well with lock/key allusio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08560" indent="-5198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oesn’t tie us to Java in the futur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08560" indent="-5198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uper short package names and jar files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Why another security framework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605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835200" indent="-5367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JAAS - confusing APIs, over-limiting, not good for application-level securit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35200" indent="-5367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pring Security - tied to Spring Framework, uses unusual terminolog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35200" indent="-5367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None of the libraries support dynamic, runtime security changes out-of-the-box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35200" indent="-5367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No libraries supported cross-domain sessio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Project Goal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69720" y="2806200"/>
            <a:ext cx="10464840" cy="702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879840" indent="-5655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mple to configure, yet powerfu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79840" indent="-5655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asy to plugin custom authentication/authoriza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79840" indent="-5655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ean object model making use of Java 5+ features (annotations, generics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79840" indent="-5655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upport dynamic, instance-level security out of the box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79840" indent="-5655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ssions not tied to web or EJB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Terminology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861840" indent="-5540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ealm - data access object for an application’s security components (users, roles, permissions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1840" indent="-5540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ubject - representation of an application use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1840" indent="-5540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rincipals - a subject’s identifying attributes (e.g. username, user ID, social security #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Terminology (cont.)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redentials - secret information known only to a user used to verify identit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ermission - atomic representation of ability to perform an action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ole - a named collection of permissio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